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D72-3202-4B6D-9CC1-BF3DC3BB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D38-35F6-49F6-8924-63CFCC6D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221-6EB8-40FD-A773-CBFCD2FB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0BD-BE50-483E-A2AE-21F94F98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836-6325-4C2A-BE4E-FD0BAC14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523-9201-40AB-B242-AE7DC2EF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5CD-AB6D-4B93-BF70-E2EC55A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24F-BA80-493A-9044-C33BD5A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90D-0414-43A8-838D-F6944A73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467-F6B4-46AB-877A-4259A35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428-FC76-440D-9E57-0D0D9C4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808-5A99-4DB4-B23C-7E8B838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2A5E-2737-42FC-9B6A-8D58E1A14F7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06T08:45:27Z</dcterms:modified>
  <cp:revision>110</cp:revision>
  <dc:subject/>
  <dc:title>PowerPoint</dc:title>
</cp:coreProperties>
</file>